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C92-1C55-4078-B84D-2C856843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289-734C-4824-AA59-B2AD8A1E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1D1-F6BD-49D8-A78C-2EE743B3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A68-6F1C-4A93-9284-7A9D61B4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3B0-EB77-45D2-8950-2505DCA6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38E-108C-48CD-8DA5-1E6E70CD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D78-AE9F-4F57-AE56-2A0915F8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E74-9E5F-4C6C-AD88-C4C2649E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C2A-A169-4618-AA65-1754B2F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ED5-837D-4421-B722-83C6A67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C1C-880A-47D8-9FAD-2956C4E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76D-4196-4721-911D-2FE99C0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374D-E03A-481D-9AD1-C3B4C46B7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7:56:17Z</dcterms:created>
  <dc:creator>Grupo Editorial</dc:creator>
  <dc:description/>
  <dc:language>en-US</dc:language>
  <cp:lastModifiedBy>Grupo Editorial</cp:lastModifiedBy>
  <dcterms:modified xsi:type="dcterms:W3CDTF">2001-09-28T08:00:39Z</dcterms:modified>
  <cp:revision>1</cp:revision>
  <dc:subject/>
  <dc:title>Sin título de diapositiva</dc:title>
</cp:coreProperties>
</file>